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ADC4A-B196-4200-B64D-79639166C70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ование ИКТ и ЦОР на уроках информатики в начальной шко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ff66cc"/>
                </a:solidFill>
                <a:latin typeface="Calibri"/>
              </a:rPr>
              <a:t>«Обучая других — обучаюсь сам».</a:t>
            </a:r>
            <a:br>
              <a:rPr sz="1000"/>
            </a:br>
            <a:r>
              <a:rPr b="0" i="1" lang="ru-RU" sz="1000" spc="-1" strike="noStrike">
                <a:solidFill>
                  <a:srgbClr val="ff66cc"/>
                </a:solidFill>
                <a:latin typeface="Calibri"/>
              </a:rPr>
              <a:t>известный римский философ Сенек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F3987-AFFB-40F9-B48C-147F9E33CAE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спользуя компьютер на уроке нельзя забывать и о том, что мы призваны не только научить ребёнка, но и, по возможности, </a:t>
            </a: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сохранить его здоровье.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По нормам СанПина непрерывная работа за компьютером учащихся начальной школы не должна превышать 10—15 минут за урок. Об этом нужно помнить при подготовке и планировании уро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B3904-27EC-4D5D-B6EE-110CA7AECFD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«Всё есть лекарство и всё есть я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Нужно знать меру!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ru-RU" sz="1200" spc="-1" strike="noStrike">
                <a:solidFill>
                  <a:srgbClr val="00ffff"/>
                </a:solidFill>
                <a:latin typeface="Calibri"/>
              </a:rPr>
              <a:t>Демокри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F45D1-072A-4A7B-8E95-9933C329B6A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ff66ff"/>
                </a:solidFill>
                <a:latin typeface="Calibri"/>
              </a:rPr>
              <a:t>По своему целевому назначению обучающие программы разнообразны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Управляющ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Диагностирующ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Демонстрационны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Генерирующ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перационны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Контролирующие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Моделирующие и т. 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DDDC5-F361-4D41-A69B-162F043CE3B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ff"/>
                </a:solidFill>
                <a:latin typeface="Calibri"/>
              </a:rPr>
              <a:t>Существует несколько вариантов использования компьютера на уроке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В </a:t>
            </a: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обычном классе с 1 компьютеризированным местом учителя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, что позволяет, демонстрируя слова учителя, удерживать внимание всего класса на объясняемом материале. Данный вариант удобен при изучении нового материала, фронтальной работе с класс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В компьютерном классе (при наличии локальной сети и без неё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), что позволяет каждому ученику продвигаться по теме урока в собственном темпе, т. е. применяется дифференцированный подход к каждому. Данный вариант целесообразно использовать при отработке навыков и при проведении проверочных, контрольных работ, тестировании. Наличие локальной сети облегчает работу учителя и позволяет ему сразу собирать данные по классу в одном месте, что удобно при проверке и анализе уро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8F409-2143-4065-BBD7-4D19ED20713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66ff"/>
                </a:solidFill>
                <a:latin typeface="Calibri"/>
              </a:rPr>
              <a:t>ЦОР, можно использовать на уроках в качестве дополнительного или наглядного материала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Особое место среди готовых программных продуктов занимает серия НАЧАЛЬНАЯ ШКОЛА компании Кирилл и Мефод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Это не просто диски, а мультимедийные учебники, разработанные с участием ведущих педагогов-практиков, психологов и дизайнеров. Они включают в себя предметы курса начальной школы: ОБУЧЕНИЕ ГРАМОТЕ, РУССКИЙ ЯЗЫК, МАТЕМАТИКУ, ОКРУЖАЮЩИЙ МИР,ИНФОРМАТ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F87E4-E102-4095-8783-9B4E147ED69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Программа Информатика - эффективное средство для уяснения, повторения и закрепления начальных понятий информатики. Дети узнают, что такое линейный и разветвляющийся алгоритм, научатся составлять алгоритмы и блок-схемы, угадывать алгоритм работы "черного ящика", работать с системой координат и т.д. Задания систематизированы в соответствии со школьным курсом информатики. Это своеобразный электронный репетитор, который следит за каждым вашим шагом, мгновенно реагирует на ошибки, выводит на экран подсказки и "шпаргалки", подводит итоги каждого выполненного варианта и выставляет оценку. Подробные результаты работы сохраняются также в текстовом фай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0D00E-7A95-4158-851C-5B5B5CA0F80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Мудрый Дракоша приглашает всех детей в увлекательное путешествие в мир компьютеров. Наш обаятельный гид расскажет вашему ребенку о первых вычислительных машинах и современных операционных системах, о локальных сетях и Интернете, объяснит устройство компьютера и научит первым правилам безопасности. А в перерывах между экскурсиями можно заниматься отстрелом злобных вирусов и прочими забавными мини-игра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128F9-8BAD-4966-BC95-48A37F0393B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Это яркое, увлекательное, весёлое пособие создано для школьников 1–4 классов. Чтобы помочь детям сделать первый шаг в страну Информатику легко и с удовольствием, задачи в нём представлены в игровой форме. Каждое новое понятие иллюстрируется примерами из обыденной детской жизни (игрушки, зверюшки, фрукты, овощи, семья, сказки), где ребёнку всё знакомо и ничто его не пугает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Материал пособия разбит на главы по классам, и потому в оглавлении встречаются повторяющиеся названия. Но содержание одноименных глав различается: из класса в класс раскрытие тем постепенно усложняется, освещаются их новые стороны и особенности. Эти занятия развивают у ребёнка абстрактное мышление, способность думать логически, принимать правильные обоснованные решения.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Диск может быть использован как для самостоятельного обучения, так и в качестве пособия для работы в класс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65D10-F92E-412F-B157-7A97DBF692E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Игры любимы всеми. Но особенно - детьми. Поэтому основу образовательного комплекса (ОК) «Игры и задачи, 1-4 классы» составили красочные интерактивные задания и игровые тренажеры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Содержание ОК охватывает основные предметные линии начального образования: обучение грамоте, русский язык, литературное чтение, математика, информатика, окружающий мир, технология и искусст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6211A-D3B8-49A9-9B21-60963DE9BAB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ff"/>
                </a:solidFill>
                <a:latin typeface="Calibri"/>
              </a:rPr>
              <a:t>Комплект интерактивных учебно-методических образовательных программных комплексов серии «УМНИК»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BE692-EB25-4E45-9104-C0FE8D60401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1B46-B77F-4A21-9DB2-CBFF0F4A9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1CD7-14FC-4FE9-B6E3-543BEA395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A5617-B64F-4858-90B9-19E557B44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0D56-B3AD-4DEA-908B-8748D513B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CCD5-1437-4DC3-98EC-67ABDC2D2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B292-13EF-4A55-9251-F13F10BF3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EC98-AC08-4C33-B68C-91C1C6376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77A66-45B9-4B94-96CF-1FE22E5C7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8AF5-1CE0-44F9-89A2-C6204EF2D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B4F9-23E4-4DDD-8CF6-7F0EDC00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B15B-3FED-4474-A9AA-50B3707E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3EDB-946F-45F4-B5B0-02DF35146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7C46B-B51B-4563-8D90-772381D333A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19280" y="2204640"/>
            <a:ext cx="6480000" cy="16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спользование ИКТ и ЦОР на уроках информатики в начальной школе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692360" y="5084280"/>
            <a:ext cx="6400800" cy="127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66cc"/>
                </a:solidFill>
                <a:latin typeface="Arial"/>
              </a:rPr>
              <a:t>«Обучая других — обучаюсь сам».</a:t>
            </a:r>
            <a:br>
              <a:rPr sz="2800"/>
            </a:br>
            <a:r>
              <a:rPr b="0" i="1" lang="ru-RU" sz="2800" spc="-1" strike="noStrike">
                <a:solidFill>
                  <a:srgbClr val="ff66cc"/>
                </a:solidFill>
                <a:latin typeface="Arial"/>
              </a:rPr>
              <a:t>известный римский философ Сен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пользуя компьютер на уроке нельзя забывать и о том, что мы призваны не только научить ребёнка, но и, по возможности, </a:t>
            </a:r>
            <a:r>
              <a:rPr b="0" lang="ru-RU" sz="2800" spc="-1" strike="noStrike">
                <a:solidFill>
                  <a:srgbClr val="ff66ff"/>
                </a:solidFill>
                <a:latin typeface="Arial"/>
              </a:rPr>
              <a:t>сохранить его здоровье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2800" spc="-1" strike="noStrike">
                <a:solidFill>
                  <a:srgbClr val="00ffff"/>
                </a:solidFill>
                <a:latin typeface="Arial"/>
              </a:rPr>
              <a:t>По нормам СанПина непрерывная работа за компьютером учащихся начальной школы не должна превышать 10—15 минут за урок. Об этом нужно помнить при подготовке и планировании уро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611280" y="2492280"/>
            <a:ext cx="8229600" cy="197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«Всё есть лекарство и всё есть яд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Нужно знать меру!»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r>
              <a:rPr b="0" lang="ru-RU" sz="3200" spc="-1" strike="noStrike">
                <a:solidFill>
                  <a:srgbClr val="00ffff"/>
                </a:solidFill>
                <a:latin typeface="Arial"/>
              </a:rPr>
              <a:t>Демокри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687708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Arial"/>
              </a:rPr>
              <a:t>По своему целевому назначению обучающие программы разнообраз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правляющ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иагностирующ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Демонстрационны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енерирующ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ерационны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нтролирующ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оделирующие и т. 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6480360" cy="141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Arial"/>
              </a:rPr>
              <a:t>Существует несколько вариантов использования компьютера на урок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2915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 </a:t>
            </a: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обычном классе с 1 компьютеризированным местом учител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, что позволяет, демонстрируя слова учителя, удерживать внимание всего класса на объясняемом материале. Данный вариант удобен при изучении нового материала, фронтальной работе с классо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ff"/>
                </a:solidFill>
                <a:latin typeface="Arial"/>
              </a:rPr>
              <a:t>В компьютерном классе (при наличии локальной сети и без неё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), что позволяет каждому ученику продвигаться по теме урока в собственном темпе, т. е. применяется дифференцированный подход к каждому. Данный вариант целесообразно использовать при отработке навыков и при проведении проверочных, контрольных работ, тестировании. Наличие локальной сети облегчает работу учителя и позволяет ему сразу собирать данные по классу в одном месте, что удобно при проверке и анализе уро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6419880" cy="120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Arial"/>
              </a:rPr>
              <a:t>ЦОР, можно использовать на уроках в качестве дополнительного или наглядного материа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обое место среди готовых программных продуктов занимает серия НАЧАЛЬНАЯ ШКОЛА компании Кирилл и Мефод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то не просто диски, а мультимедийные учебники, разработанные с участием ведущих педагогов-практиков, психологов и дизайнеров. Они включают в себя предметы курса начальной школы: ОБУЧЕНИЕ ГРАМОТЕ, РУССКИЙ ЯЗЫК, МАТЕМАТИКУ, ОКРУЖАЮЩИЙ МИР,ИНФОРМАТИ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i-main-pic" descr="Картинка 14 из 1203"/>
          <p:cNvPicPr/>
          <p:nvPr/>
        </p:nvPicPr>
        <p:blipFill>
          <a:blip r:embed="rId1"/>
          <a:stretch/>
        </p:blipFill>
        <p:spPr>
          <a:xfrm>
            <a:off x="4572000" y="4076640"/>
            <a:ext cx="1666800" cy="1952640"/>
          </a:xfrm>
          <a:prstGeom prst="rect">
            <a:avLst/>
          </a:prstGeom>
          <a:ln w="0">
            <a:noFill/>
          </a:ln>
        </p:spPr>
      </p:pic>
      <p:pic>
        <p:nvPicPr>
          <p:cNvPr id="60" name="i-main-pic" descr="Картинка 2 из 1203"/>
          <p:cNvPicPr/>
          <p:nvPr/>
        </p:nvPicPr>
        <p:blipFill>
          <a:blip r:embed="rId2"/>
          <a:stretch/>
        </p:blipFill>
        <p:spPr>
          <a:xfrm>
            <a:off x="6588000" y="4005360"/>
            <a:ext cx="2232000" cy="221112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ограмма Информатика - эффективное средство для уяснения, повторения и закрепления начальных понятий информатики. Дети узнают, что такое линейный и разветвляющийся алгоритм, научатся составлять алгоритмы и блок-схемы, угадывать алгоритм работы "черного ящика", работать с системой координат и т.д. Задания систематизированы в соответствии со школьным курсом информатики. Это своеобразный электронный репетитор, который следит за каждым вашим шагом, мгновенно реагирует на ошибки, выводит на экран подсказки и "шпаргалки", подводит итоги каждого выполненного варианта и выставляет оценку. Подробные результаты работы сохраняются также в текстовом файл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148750"/>
          <p:cNvPicPr/>
          <p:nvPr/>
        </p:nvPicPr>
        <p:blipFill>
          <a:blip r:embed="rId1"/>
          <a:stretch/>
        </p:blipFill>
        <p:spPr>
          <a:xfrm>
            <a:off x="6227640" y="0"/>
            <a:ext cx="2305080" cy="196704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удрый Дракоша приглашает всех детей в увлекательное путешествие в мир компьютеров. Наш обаятельный гид расскажет вашему ребенку о первых вычислительных машинах и современных операционных системах, о локальных сетях и Интернете, объяснит устройство компьютера и научит первым правилам безопасности. А в перерывах между экскурсиями можно заниматься отстрелом злобных вирусов и прочими забавными мини-игр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170507"/>
          <p:cNvPicPr/>
          <p:nvPr/>
        </p:nvPicPr>
        <p:blipFill>
          <a:blip r:embed="rId1"/>
          <a:stretch/>
        </p:blipFill>
        <p:spPr>
          <a:xfrm>
            <a:off x="6227640" y="0"/>
            <a:ext cx="2232000" cy="196848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то яркое, увлекательное, весёлое пособие создано для школьников 1–4 классов. Чтобы помочь детям сделать первый шаг в страну Информатику легко и с удовольствием, задачи в нём представлены в игровой форме. Каждое новое понятие иллюстрируется примерами из обыденной детской жизни (игрушки, зверюшки, фрукты, овощи, семья, сказки), где ребёнку всё знакомо и ничто его не пугает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териал пособия разбит на главы по классам, и потому в оглавлении встречаются повторяющиеся названия. Но содержание одноименных глав различается: из класса в класс раскрытие тем постепенно усложняется, освещаются их новые стороны и особенности. Эти занятия развивают у ребёнка абстрактное мышление, способность думать логически, принимать правильные обоснованные решения.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Диск может быть использован как для самостоятельного обучения, так и в качестве пособия для работы в класс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i-main-pic" descr="Картинка 1 из 431"/>
          <p:cNvPicPr/>
          <p:nvPr/>
        </p:nvPicPr>
        <p:blipFill>
          <a:blip r:embed="rId1"/>
          <a:stretch/>
        </p:blipFill>
        <p:spPr>
          <a:xfrm>
            <a:off x="6372360" y="0"/>
            <a:ext cx="2381040" cy="3352680"/>
          </a:xfrm>
          <a:prstGeom prst="rect">
            <a:avLst/>
          </a:prstGeom>
          <a:ln w="0">
            <a:noFill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гры любимы всеми. Но особенно - детьми. Поэтому основу образовательного комплекса (ОК) «Игры и задачи, 1-4 классы» составили красочные интерактивные задания и игровые тренажеры.</a:t>
            </a:r>
            <a:br>
              <a:rPr sz="2800"/>
            </a:b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держание ОК охватывает основные предметные линии начального образования: обучение грамоте, русский язык, литературное чтение, математика, информатика, окружающий мир, технология и искусст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i-main-pic" descr="Картинка 33 из 431"/>
          <p:cNvPicPr/>
          <p:nvPr/>
        </p:nvPicPr>
        <p:blipFill>
          <a:blip r:embed="rId1"/>
          <a:stretch/>
        </p:blipFill>
        <p:spPr>
          <a:xfrm>
            <a:off x="6156360" y="189000"/>
            <a:ext cx="2400120" cy="3384360"/>
          </a:xfrm>
          <a:prstGeom prst="rect">
            <a:avLst/>
          </a:prstGeom>
          <a:ln w="0">
            <a:noFill/>
          </a:ln>
        </p:spPr>
      </p:pic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115920"/>
            <a:ext cx="601200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ff"/>
                </a:solidFill>
                <a:latin typeface="Arial"/>
              </a:rPr>
              <a:t>Комплект интерактивных учебно-методических образовательных программных комплексов серии «УМНИК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smart"/>
          <p:cNvPicPr/>
          <p:nvPr/>
        </p:nvPicPr>
        <p:blipFill>
          <a:blip r:embed="rId1"/>
          <a:stretch/>
        </p:blipFill>
        <p:spPr>
          <a:xfrm>
            <a:off x="5796000" y="0"/>
            <a:ext cx="3238560" cy="240984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179280" y="2492280"/>
            <a:ext cx="8209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Arial"/>
              </a:rPr>
              <a:t>Высокая интерактивность обучающих курсов · Простота в использовании · Богатый визуальный материал (яркая анимация явлений и процессов, 3D-модели, динамические схемы, интерактивные таблицы, фотографии и иллюстрации) · Учебный материал программ представлен в виде логически завершенных отдельных фрагмен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2T04:34:54Z</dcterms:created>
  <dc:creator>Mosina T.V</dc:creator>
  <dc:description/>
  <dc:language>en-US</dc:language>
  <cp:lastModifiedBy>LEGION</cp:lastModifiedBy>
  <dcterms:modified xsi:type="dcterms:W3CDTF">2015-04-01T07:49:35Z</dcterms:modified>
  <cp:revision>6</cp:revision>
  <dc:subject/>
  <dc:title>Использование ИКТ и ЦОР на уроках информатики в начальной школе.</dc:title>
</cp:coreProperties>
</file>